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7895-768C-4563-8A73-C5EB0E5E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9763-BEAA-43CF-A482-A75AD50A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0973-B1A2-47CF-B679-043DAB10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D348-79DE-48AB-B48F-3E410FF69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C66D-DD2A-409D-9C7C-0F25C248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1B62-2E94-4911-B130-F6A8B74D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5545-0B29-420A-AAFA-46510C33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E9B1-F614-4E68-8E44-25FE39E1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4455-5760-4F45-8F36-CEA6CF62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E154-0928-4D51-AA4D-63A84F95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22FC-63A5-4CFD-B66F-6008D04C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A4D9-3CC9-41AD-9C47-43F4BC08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c2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41DF-5CFD-4366-ADC9-3C049DA9F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c2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Tech Plan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c2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urriculum Goal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tudent proficiency Offic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owerPoi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ublishe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c2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rofessional Development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cces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eacher proficien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aid prep period/afterschool training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c2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nfrastructure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oftware installed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tudent Network – Save locatio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ireless acces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c2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Funding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2 teachers 1 period/day (instructors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4 periods for each teacher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c2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Monitoring/Evaluation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tap survey for teacher and student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6:44:18Z</dcterms:created>
  <dc:creator>User</dc:creator>
  <dc:description/>
  <dc:language>en-US</dc:language>
  <cp:lastModifiedBy>User</cp:lastModifiedBy>
  <dcterms:modified xsi:type="dcterms:W3CDTF">2008-08-04T17:01:17Z</dcterms:modified>
  <cp:revision>2</cp:revision>
  <dc:subject/>
  <dc:title>Tech Plan</dc:title>
</cp:coreProperties>
</file>